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701-B96E-41FA-B08E-E7CE542E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52A0F-3E89-4026-93BA-EF5D33A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5CEE-8A19-4342-94C9-B34956304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604-31D3-4D2B-920C-FBD23879B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DD3-F32A-431B-BE0B-38CCB002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8EA6-7FC8-45BB-B68C-B77AC661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093C-ECA2-417C-8001-88DF90DE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D05D-37EF-4F79-BCFA-C96ED02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16FF-903E-4C82-ACAC-9E51A599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E121-5578-4A09-B947-C33FBD1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784F-B70C-4DB7-9142-68D13E4E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0B6-1BA2-4865-9A9F-F3E2EBC2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058-D149-478B-96F1-75EB05AD66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vezetés a programozásb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mi tételek megvalósít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s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program elemeit sorokba írjuk. Egy sor max. 126 karakter hosszú le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egjegy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orlátlan hosszúságú szöveg, bárhány programsoron keresztül { } vagy (* *) közö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szerű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rték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áltozóhivatkozás:=kifejez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járáshív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-azonosító (aktuális paraméterlis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zérlésátad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TO cím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Összetet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zekvenc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lágaz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feltét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álasztá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S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szelektor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Állandó:utasítás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LS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tasít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Utasítás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klu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átu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PE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TIL kilépési feltét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LE belépési feltétel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öl tesztelő léptet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ciklusváltozó:=kezdőérték TO/DOWNTO végérték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hello világ program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Program hell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riteln(‘Hello világ !’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rozat számí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1: egy osztály N db tanuló jegyeinek ismeretében adjuk meg az osztály átlag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2: egy M elemű betűsorozat betűit fűzzük össze egyetlen szövegg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3: adjuk meg az első N természetes szám szorzatá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goritm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: egész, X: tömb, F0: elemtípus, S: elem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rozatszámítás(N,X,S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I=1-től N-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:=f(S,X(I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ldönté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4: döntsük el egy számról, hogy prímszám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F5: döntsük el egy tanuló év végi jegyei alapján, hogy kitűnő-e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1" lang="hu-HU" sz="1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 egész, X tömb,VAN logika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 (N,X,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:=ham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I=1 től N-i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S:=S + X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döntés(N,X,V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amíg I&lt;= N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2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Kiválaszt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6: ismerjük a hónap nevét, a hónapnevek sorozata alapján mondjuk meg a sorszám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7: adjuk meg egy természetes szám legkisebb, 1 től különböző osztójá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vény: T: elemtípus </a:t>
            </a:r>
            <a:r>
              <a:rPr b="0" lang="hu-HU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N egész, X tömb, SORSZ egés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iválasztás (N,X,SORS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amíg nem T(X(I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SORSZ:=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áris keresé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8: ismerjük egy üzlet havi forgalmát: minden napra megadjuk, hogy mennyi volt a bevétel és mennyi a kiadás. Adjuk meg olyan napot –ha van-, amelyik nem volt nyeresége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9: egy tetszőleges természetes számnak adjuk meg egy osztóját, ami nem az 1 és nem is önmag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üggvény: T:elemtípus 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egész, X tömb, VAN: logikai, SRSZ: egés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Keresés (N,X,VAN,SRS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amíg I&lt;=N  és nem T(X(I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:=I+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AN:=(I&lt;=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 VAN akkor SRSZ:=I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emi programozási tétel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egszám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10:családok létszámának, illetve jövedelmének alapján állapítsuk meg. Hogy hány család él a létminimum alat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lgorit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üggvény elemtípus </a:t>
            </a:r>
            <a:r>
              <a:rPr b="0" lang="hu-HU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logika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: egész, X tömb, DB eg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gszámolás(N,X,D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B: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I=1 től N i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Ha T(X(I)) akkor DB:=DB+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Ciklus vé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járás vé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gy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 program felépítése a következő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jlé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lement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gyes programnyelveknél a fejléc és a deklarációs rész egy része külön forrásfájlban helyezkedik el (C,C++,AD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íg más nyelveknél egyetlen egy forrásfájlban található  az implementációval (Pascal,Java,C#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ascal program elem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övetkező elemi egységekből épül f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imbólum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nntartott szava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onosító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ímké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ám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zöveg konstan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választó jelek: egy vagy több szóköz,kontrol karaktere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zimbólumok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agybetűk,kisbetűk,számjegye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..Z,a..z,0..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exadecimális számjegyek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$ után: 0..9,A..F,a..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gy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+-*/={}[].,;()^@$#&lt;&g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étkarakteres szimbólum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&lt;= &gt;= &lt;&gt; := .. (* *) (. 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enntartott szava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, ASM, ARRAY, BEGIN, CASE, CONST, CONSTRUCTOR, DESTRU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V, DO, DOWNTO, ELSE, END, FILE, FOR, FUNCTION, GOTO, I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, IN, INLINE, INTERFACE, LABEL, MOD, NIL, N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, OF, OR, PACKED, PROCEDURE, PROGRAM, RECO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, SET, SHL, SHR, STRING, THEN, TO, TYPE, UNIT, UNTIL, USES, VAR, WHILE, WITH, X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onosító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lábbiak egyikét azonosítj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sé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járá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üggvé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ód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ím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onsta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íp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áltoz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kord és objektum mez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sbetűből,nagybetűből,számjegyből és aláhúzás karakterből állhat, számjeggyel nem kezdődh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program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fej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GRAM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USES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,azonosító …]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deklarációs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LABEL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címke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TYP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=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CONST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[:típus]= konstans kifejezé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VAR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:típu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PROCEDURE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Eljárás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FUNCTION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azonosító [(formális paraméter lista)]:típusazonosító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Függvényblok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gramblokk – végrehajtandó rés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Utasítás[;utasítás…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END.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ljárás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járásfe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 eljárás-azonosító (formális paraméterlist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üggvény felé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üggvényfej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 eljárás-azonosító (formális paraméterlista):típusazonosító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klarációs rés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B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lok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asítás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1:26:51Z</dcterms:created>
  <dc:creator>Nagymáté Péter</dc:creator>
  <dc:description/>
  <dc:language>en-US</dc:language>
  <cp:lastModifiedBy>Nagymáté Péter</cp:lastModifiedBy>
  <dcterms:modified xsi:type="dcterms:W3CDTF">2004-04-15T13:06:38Z</dcterms:modified>
  <cp:revision>4</cp:revision>
  <dc:subject/>
  <dc:title>Bevezetés a programozásba</dc:title>
</cp:coreProperties>
</file>